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518-DF9A-4F42-8EFB-D8DD443C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0DA-8BDB-4373-A998-B6877CFD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DF2-AE7B-4037-BC12-25A3976E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113-F6EE-426E-B294-AAAAD938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CB1-53F6-4818-9282-EBA3D7B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74A-78D8-43B7-BCE8-E3EF8683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4BC-DF62-4E57-9D2D-7C97214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17A-A2F6-4338-9CAB-1D690375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AFE-D8D9-4D18-A042-F7031334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610-A77A-4A26-AA71-823E4D8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C11-C6A9-4E49-B5CF-F16A1B5C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551-D268-41A3-BDA3-3572AEAA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D1FF-1CE7-4137-808D-D0140400E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533520"/>
            <a:ext cx="8329680" cy="6097320"/>
            <a:chOff x="380880" y="533520"/>
            <a:chExt cx="832968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80880" y="533520"/>
              <a:ext cx="832968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79160" y="3049200"/>
              <a:ext cx="866880" cy="85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46040" y="3120840"/>
              <a:ext cx="3352680" cy="342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22760" y="3735000"/>
              <a:ext cx="761760" cy="28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08560" y="3963600"/>
              <a:ext cx="609480" cy="25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65760" y="5030640"/>
              <a:ext cx="609480" cy="152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4360" y="6097320"/>
              <a:ext cx="91440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84120" y="3049200"/>
              <a:ext cx="91440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897200" y="0"/>
            <a:ext cx="57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les of Ecological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2920" y="45720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920" y="37339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2880" y="312408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04480" y="30481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6668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roduction of sexual mechanisms and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costs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46440" y="1676520"/>
            <a:ext cx="3654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costs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907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ating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1960" y="1600200"/>
            <a:ext cx="3130560" cy="3962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3843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91160" cy="516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costs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907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disease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907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female escape from pred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costs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71720" y="1676520"/>
            <a:ext cx="3452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246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udent predator hypothe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-- to avoid depleting a food resource, an animal develops the behavior of restraint in f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roup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52280" y="124920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A behavior that increases fitness of the population but decreases fitness of the individual. Not usually an evolutionary stable strategy (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76320" y="533412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udent predator hypothe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-- example where group selection is not a stable strate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76320" y="1066680"/>
            <a:ext cx="92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re in animals (parthenogene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96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14600"/>
            <a:ext cx="922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hids, weev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few fish, amphibians, liz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what more common in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657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exual reproduction benefit may be more offsp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cost may be reduced variation in gen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152280" y="121932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sexual reproduction must in general outweigh the costs because it is widespread (also true in past histo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xual versus a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173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the fact that a female chooses a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28600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xual dimorph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a difference in the outward appearance of males and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91644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ifferent sexual functions shape the body size of males and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5166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male/male contests may favor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7280" y="836640"/>
            <a:ext cx="8028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ifferent sexual functions shape the body size of males and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8494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male/male contests may favor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414504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hoice by the opposite 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238400"/>
            <a:ext cx="8076960" cy="5619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Evolution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96880" y="861840"/>
            <a:ext cx="6148440" cy="5691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9760" cy="4037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29200" y="190512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ice by the opposite sex can lead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unaway sexual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196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152280" y="13716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handicap princi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if a male can have a trait that is not adaptive, it must be that the overall fitness is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53520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arasite-medi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- non adaptive trait is linked to unapparent adaptiv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3320" y="938160"/>
            <a:ext cx="5335560" cy="5691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xu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roductive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19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ukaryotes: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xual reprodu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production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me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i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t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nga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08456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em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e form of the organism that carries the most provisioning for the offspring (i.e., the egg). All other "sexes" are by definition 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28600" y="144792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important genetic consequence of sex: bringing together in a single cell genes from two parental cel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084560"/>
            <a:ext cx="8458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etic recombin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occurs during meiosis also ensures that genes from different (b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mologo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combined in a single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roductive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81080" y="2852640"/>
            <a:ext cx="5765760" cy="4005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60948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, fusing of haploid cells within an organism  to restores diploid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, reproduction with no meiosis, cl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143000"/>
            <a:ext cx="3657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tions can evolve more rapidly to meet changed circumstances or develop new defenses against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tage of s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1166760"/>
            <a:ext cx="393696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44792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Sexual reproduction speeds up the accumulation of beneficial mutations in a single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tage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76320" y="32004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Slowly reproducing organisms can speed up the response to a disease (Red Queen hypothe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76320" y="495288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Genomes that accumulate mutations are ‘repaired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52280" y="144792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ost of producing males -- halves the productive part of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advantage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52280" y="342900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ost resulting from discarding half the genes -- no guarantee that male genes are better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st of mei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5120" y="861840"/>
            <a:ext cx="8028000" cy="531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2120" y="196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advantage of 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0:30:50Z</dcterms:created>
  <dc:creator>Ted Schuur</dc:creator>
  <dc:description/>
  <dc:language>en-US</dc:language>
  <cp:lastModifiedBy>Ted Schuur</cp:lastModifiedBy>
  <dcterms:modified xsi:type="dcterms:W3CDTF">2005-10-09T23:54:14Z</dcterms:modified>
  <cp:revision>56</cp:revision>
  <dc:subject/>
  <dc:title>PowerPoint Presentation</dc:title>
</cp:coreProperties>
</file>